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6.jpeg" ContentType="image/jpeg"/>
  <Override PartName="/ppt/media/image7.wmf" ContentType="image/x-wmf"/>
  <Override PartName="/ppt/media/image11.jpeg" ContentType="image/jpeg"/>
  <Override PartName="/ppt/media/image10.jpeg" ContentType="image/jpeg"/>
  <Override PartName="/ppt/media/image12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4F3D-A584-4974-8258-749AF0DE9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86EF-8BE0-4AF1-804C-B484617CC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0B7D-0931-4CCE-99D8-0147F3A41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9045-C823-4C29-A6D4-0838B882E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AA56-1F43-492A-A717-C94CB08FD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869C-9418-4957-ACF8-892572CE1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EEFE-C771-4B86-B35B-97C9C06FE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9FFD-D92C-4B83-9E19-E21C2708D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79C5-9DE7-4191-8777-D02418ABB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D7BF-3109-42BB-BB88-7D237387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471E-9BB5-4ED8-83A3-435DE42F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351A-968F-441C-9230-80F38505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1620B53-64EB-416A-8A12-9D4465E6323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Презентация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821880" y="1979640"/>
            <a:ext cx="841860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ПО ТЕМЕ: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Государство АЛЖИР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99284c"/>
                </a:solidFill>
                <a:latin typeface="Times New Roman"/>
              </a:rPr>
              <a:t>                                      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99284c"/>
                </a:solidFill>
                <a:latin typeface="Times New Roman"/>
              </a:rPr>
              <a:t>                                       </a:t>
            </a:r>
            <a:r>
              <a:rPr b="1" i="1" lang="ru-RU" sz="1600" spc="-1" strike="noStrike">
                <a:solidFill>
                  <a:srgbClr val="99284c"/>
                </a:solidFill>
                <a:latin typeface="Times New Roman"/>
              </a:rPr>
              <a:t>Подготовили учащиеся 7 класса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99284c"/>
                </a:solidFill>
                <a:latin typeface="Times New Roman"/>
              </a:rPr>
              <a:t>                                </a:t>
            </a:r>
            <a:r>
              <a:rPr b="1" i="1" lang="ru-RU" sz="1600" spc="-1" strike="noStrike">
                <a:solidFill>
                  <a:srgbClr val="99284c"/>
                </a:solidFill>
                <a:latin typeface="Times New Roman"/>
              </a:rPr>
              <a:t>Руководитель: Булыгина Л.Н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99284c"/>
                </a:solidFill>
                <a:latin typeface="Arial"/>
              </a:rPr>
              <a:t>                     </a:t>
            </a:r>
            <a:r>
              <a:rPr b="1" i="1" lang="ru-RU" sz="1600" spc="-1" strike="noStrike">
                <a:solidFill>
                  <a:srgbClr val="99284c"/>
                </a:solidFill>
                <a:latin typeface="Arial"/>
              </a:rPr>
              <a:t>г.Тольятти МОУ сш № 9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1240" y="744120"/>
            <a:ext cx="860760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Образование и здравоохранение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821880" y="2182680"/>
            <a:ext cx="841860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99284c"/>
                </a:solidFill>
                <a:latin typeface="Arial"/>
              </a:rPr>
              <a:t>Алжир добился заметных достижений в области образования. В стране функционируют 8 университетов , 170 других высших учебных заведений, 700 центров профессионально-технического образования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99284c"/>
                </a:solidFill>
                <a:latin typeface="Arial"/>
              </a:rPr>
              <a:t>С 1974 года введено бесплатное медицинское обслуживание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20720" y="360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Климат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68320" y="1534680"/>
            <a:ext cx="4890960" cy="5303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 fontScale="99000"/>
          </a:bodyPr>
          <a:p>
            <a:pPr marL="3394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333333"/>
                </a:solidFill>
                <a:latin typeface="Arial"/>
              </a:rPr>
              <a:t>Климат Северного Алжира — субтропический средиземноморский. Климат Алжирской Сахары — тропический пустынный, осадков менее 50 мм в год.Речная сеть развита слабо.Растительный покров и почвы Северного Алжира типично средиземноморские. Среди лесов и кустарников выделяются массивы пробкового дуба, в полупустыне — трава альфа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5759280" y="2519280"/>
            <a:ext cx="3483000" cy="339084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ru-RU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16" name="Picture 3" descr="file:///C:/Documents%20and%20Settings/Слава70/Рабочий%20стол/Алжир/Алжир/11.jpg"/>
          <p:cNvPicPr/>
          <p:nvPr/>
        </p:nvPicPr>
        <p:blipFill>
          <a:blip r:embed=""/>
          <a:stretch/>
        </p:blipFill>
        <p:spPr>
          <a:xfrm>
            <a:off x="469800" y="360360"/>
            <a:ext cx="9069480" cy="6832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D:\Documents and Settings\Дом\Рабочий стол\algeria.jpg"/>
          <p:cNvPicPr/>
          <p:nvPr/>
        </p:nvPicPr>
        <p:blipFill>
          <a:blip r:embed="rId1"/>
          <a:stretch/>
        </p:blipFill>
        <p:spPr>
          <a:xfrm>
            <a:off x="539640" y="565200"/>
            <a:ext cx="8786880" cy="6429240"/>
          </a:xfrm>
          <a:prstGeom prst="rect">
            <a:avLst/>
          </a:prstGeom>
          <a:ln w="0">
            <a:noFill/>
          </a:ln>
        </p:spPr>
      </p:pic>
      <p:sp>
        <p:nvSpPr>
          <p:cNvPr id="118" name="TextBox 5"/>
          <p:cNvSpPr/>
          <p:nvPr/>
        </p:nvSpPr>
        <p:spPr>
          <a:xfrm>
            <a:off x="4483080" y="4851360"/>
            <a:ext cx="456840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План характеристики страны: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1. Географическое положение страны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2. Государственные символы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3. Государственное устройство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4. Экономика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5. Население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6. Образование и здравоохранение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7. Природа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Географическое полажение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822240" y="2160720"/>
            <a:ext cx="4757760" cy="43225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135400" y="2138400"/>
            <a:ext cx="410688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Находится Алжир на севере Африки. Одно из крупнейших государств континента. Общая площадь страны 2 381 740 км²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Государственый флаг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88" name="Object 2"/>
          <p:cNvGraphicFramePr/>
          <p:nvPr/>
        </p:nvGraphicFramePr>
        <p:xfrm>
          <a:off x="822240" y="2138400"/>
          <a:ext cx="4106880" cy="4762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2240" y="2138400"/>
                    <a:ext cx="410688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20720" y="2339640"/>
            <a:ext cx="41068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sans-serif;Arial"/>
              </a:rPr>
              <a:t>   </a:t>
            </a:r>
            <a:r>
              <a:rPr b="0" lang="ru-RU" sz="2800" spc="-1" strike="noStrike">
                <a:solidFill>
                  <a:srgbClr val="333333"/>
                </a:solidFill>
                <a:latin typeface="sans-serif;Arial"/>
              </a:rPr>
              <a:t>С</a:t>
            </a:r>
            <a:r>
              <a:rPr b="0" lang="en-US" sz="2800" spc="-1" strike="noStrike">
                <a:solidFill>
                  <a:srgbClr val="333333"/>
                </a:solidFill>
                <a:latin typeface="sans-serif;Arial"/>
              </a:rPr>
              <a:t>остоит из двух вертикальных полос одинаковой ширины зелёного и белого цвета. В центре расположены красная звезда и полумесяц. Флаг принят 3 июля 1962 года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3"/>
          <a:stretch/>
        </p:blipFill>
        <p:spPr>
          <a:xfrm>
            <a:off x="4826160" y="2565360"/>
            <a:ext cx="4564080" cy="34196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Герб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135400" y="2138040"/>
            <a:ext cx="41068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2540160" y="2136600"/>
            <a:ext cx="4397040" cy="44136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Государственное устройство: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1239840" y="2138400"/>
            <a:ext cx="3273480" cy="47624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858920" y="1979640"/>
            <a:ext cx="4383000" cy="49212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14004"/>
                </a:solidFill>
                <a:latin typeface="Arial"/>
              </a:rPr>
              <a:t>Официальное название — Алжи́рская Наро́дная Демократи́ческая Респу́блика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14004"/>
                </a:solidFill>
                <a:latin typeface="Arial"/>
              </a:rPr>
              <a:t>Глава государства —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14004"/>
                </a:solidFill>
                <a:latin typeface="Arial"/>
              </a:rPr>
              <a:t>Президент. С апреля 1999 президент — 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1400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14004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314004"/>
                </a:solidFill>
                <a:latin typeface="Arial"/>
              </a:rPr>
              <a:t>Абдельазиз Бутефлика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4498920" y="4859280"/>
            <a:ext cx="469800" cy="82872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</p:spTree>
  </p:cSld>
  <p:transition spd="med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          </a:t>
            </a: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Экономика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25120" y="1779480"/>
            <a:ext cx="84186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                          </a:t>
            </a: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Основа экономики Алжира                                               -газ и нефть. Они дают 30 % ВВП, 60 %           доходной части госбюджета, 95 % экспортной выручки. По запасам газа Алжир занимает 8-е место в мире и 4-е                   место в мире по экспорту газа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1" name="Picture 4" descr="D:\Documents and Settings\Дом\Рабочий стол\picture-390h.jpg"/>
          <p:cNvPicPr/>
          <p:nvPr/>
        </p:nvPicPr>
        <p:blipFill>
          <a:blip r:embed="rId1"/>
          <a:stretch/>
        </p:blipFill>
        <p:spPr>
          <a:xfrm>
            <a:off x="754200" y="636480"/>
            <a:ext cx="3071520" cy="25034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Валюта   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6193800" y="2208240"/>
            <a:ext cx="21985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жирский ДИН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D:\Documents and Settings\Дом\Рабочий стол\223997b.jpg"/>
          <p:cNvPicPr/>
          <p:nvPr/>
        </p:nvPicPr>
        <p:blipFill>
          <a:blip r:embed="rId1"/>
          <a:stretch/>
        </p:blipFill>
        <p:spPr>
          <a:xfrm>
            <a:off x="896760" y="1708200"/>
            <a:ext cx="4029120" cy="3905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D:\Documents and Settings\Дом\Рабочий стол\243233b.jpg"/>
          <p:cNvPicPr/>
          <p:nvPr/>
        </p:nvPicPr>
        <p:blipFill>
          <a:blip r:embed="rId2"/>
          <a:stretch/>
        </p:blipFill>
        <p:spPr>
          <a:xfrm>
            <a:off x="5611680" y="1565280"/>
            <a:ext cx="3500640" cy="5286240"/>
          </a:xfrm>
          <a:prstGeom prst="rect">
            <a:avLst/>
          </a:prstGeom>
          <a:ln w="0">
            <a:noFill/>
          </a:ln>
        </p:spPr>
      </p:pic>
      <p:sp>
        <p:nvSpPr>
          <p:cNvPr id="106" name="TextBox 7"/>
          <p:cNvSpPr/>
          <p:nvPr/>
        </p:nvSpPr>
        <p:spPr>
          <a:xfrm>
            <a:off x="1197720" y="6208560"/>
            <a:ext cx="23904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Алжирский  ДИН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1240" y="744120"/>
            <a:ext cx="860760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Население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21880" y="2182680"/>
            <a:ext cx="841860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4c1900"/>
                </a:solidFill>
                <a:latin typeface="Arial"/>
              </a:rPr>
              <a:t>Численность населения — 34,2 млн </a:t>
            </a:r>
            <a:endParaRPr b="0" lang="en-US" sz="31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4c1900"/>
                </a:solidFill>
                <a:latin typeface="Arial"/>
              </a:rPr>
              <a:t>Годовой прирост — 1,2 % (1,8 рождений на женщину).</a:t>
            </a:r>
            <a:endParaRPr b="0" lang="en-US" sz="31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4c1900"/>
                </a:solidFill>
                <a:latin typeface="Arial"/>
              </a:rPr>
              <a:t>Этнический состав — арабы 83 %, берберы 16 %, прочие менее 1 %.</a:t>
            </a:r>
            <a:endParaRPr b="0" lang="en-US" sz="31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4c1900"/>
                </a:solidFill>
                <a:latin typeface="Arial"/>
              </a:rPr>
              <a:t>Языки — арабский официальный, берберские диалекты, распространён французский.</a:t>
            </a:r>
            <a:endParaRPr b="0" lang="en-US" sz="31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4c1900"/>
                </a:solidFill>
                <a:latin typeface="Arial"/>
              </a:rPr>
              <a:t>Религия — мусульмане-сунниты 99 %, прочие 1 %.</a:t>
            </a:r>
            <a:endParaRPr b="0" lang="en-US" sz="31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4c1900"/>
                </a:solidFill>
                <a:latin typeface="Arial"/>
              </a:rPr>
              <a:t>Грамотность — 79 % мужчин, 60 % женщин</a:t>
            </a:r>
            <a:endParaRPr b="0" lang="en-US" sz="31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6:55:12Z</dcterms:created>
  <dc:creator>SamLab.ws</dc:creator>
  <dc:description/>
  <dc:language>en-US</dc:language>
  <cp:lastModifiedBy>Admin</cp:lastModifiedBy>
  <dcterms:modified xsi:type="dcterms:W3CDTF">2010-01-10T12:37:59Z</dcterms:modified>
  <cp:revision>17</cp:revision>
  <dc:subject/>
  <dc:title>Учавствовали в презентации:</dc:title>
</cp:coreProperties>
</file>